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7C2-EBD8-40F9-9EA8-C074A8C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593-D60E-43EF-97F3-5D540509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88F-7307-46A5-8E04-9146A03E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A7B-CC00-441B-965D-87F4A460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B7F33-56CD-471F-95B9-F3004BAE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8E3E-6F21-4E1C-92E2-E3BD5EBE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5573-19B5-4A60-B4EE-1D898E32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D6A2E-2D7E-4CBF-A3D8-38025E54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32EF0-C07C-4F6B-BED0-9FD5503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CA321-760D-4C22-9BC6-23231354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F949-D926-4011-873C-65F3B1A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590-3AE8-4112-98A5-DF811636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72FF2-3229-4CF6-80F4-7470890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44DA-2597-4B83-9996-1F8510F2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A03D-D543-4C4B-809A-31C9325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D4D02-DB40-41E2-BD9B-40D54A56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5F851-5BF2-4B3E-A77D-E96042B6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3EA-4FE7-43F1-BD3B-8C3D6908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33F-063E-47AF-B99E-F5D3A559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A17-4086-46B4-924A-D1A79ED2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A05-3BEA-462C-AC7B-A3E2B120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043-8AF5-4737-AFCD-1197ABD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E2F-5415-4942-B962-E2BECCF5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9F7-9CE8-46BA-AD7E-AE101E7D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B746-0077-4072-B9C1-647A1895C9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DACC-20D7-42F0-A929-4BAF918C2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Мастер – класс по рисованию с помощью губки и малярного скотча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"Мы учимся рисовать"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Дерендеева И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/с «Ручеё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6019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ям постарше ( 4 -5 лет) можно предложить раскрасить черепашку с помощью губки и малярного скот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Опис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очень увлекательное занятие, особенно для маленьких детей . Держать карандаш или кисточку для них еще трудновато, так как рисование карандашом требует от детей определённого нажима для того, чтобы он начал оставлять на бумаге яркие черточки, кружочки. Деткам до 2-3 лет сложно рисовать с помощью кисточки, поэтому используем всевозможные заменители кистей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с одной стороны хороший способ развития фантазии, с другой — развитие умения рисовать. Простота создания рисунка с помощью губки придает ребенку уверенность в своих силах и не требует от него определенных умений рисовать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Мастер – класс будет полезен в работе воспитателей детских садов и родителей с детьми от 2 лет , а также всем творческим людя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: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яркого рисунка в стиле абстр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влечь детей интересным способом рисования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интерес и положительного отношения к рисовани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мелкую моторику, глазомер, пространственное воображение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воображение, фантазию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эстетический и художественный вкус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оспитывать самостоятельность, аккуратность, любозна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создания такого рисунка нам потребуется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лый картон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ашь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бка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лярный скотч( узкий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ожн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нарезаем губку на маленькие кусочки, для того чтобы маленькой детской руке было удобнее дер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лее в одноразовых тарелочках разводим гуашь. В данном случае мы взяли 4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он необходимо заклеить хаотично полосками малярного скотча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667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предлагаем ребенку потрогать, почувствовать губку, какая она мягкая, сухая, мокрая. Показываем, как можно наносить мазки поверх малярного скотча. Потом ребенок сам берет губку, обмакивает ее в краску одного цвета и закрашивает лист бумаги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94216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краска высохнет, можно аккуратно оторвать полоски малярного скотча. Такой рисунок в стиле абстракции, можно вставить в рамку и повесить на стену такую необычную картину ребен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4:07:41Z</dcterms:created>
  <dc:creator>Ucer</dc:creator>
  <dc:description/>
  <dc:language>en-US</dc:language>
  <cp:lastModifiedBy>Ucer</cp:lastModifiedBy>
  <dcterms:modified xsi:type="dcterms:W3CDTF">2019-03-09T14:37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